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382-6C51-4954-8FB5-6BEC7E1C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77B-4B21-4569-88A7-E325ADEB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1EA-ABF2-4849-91FC-7B3E1EAC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826-52E9-43D2-8B96-938B76DF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55D-42AE-423E-9A33-25C81AC3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3EE-35E1-415F-84C7-E15D9313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1E0-D5D4-4C67-815A-7FD02AB5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CBA-3E46-46C0-9BB0-E773E618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DF8-731F-41AE-9A01-B0E42359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BA5-5829-4758-926F-6DC9C223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B18-1B60-4343-ABE9-11752362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499-51C8-47EC-9740-5745FEC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A2D8-FC09-4DF8-9BC6-596966C5E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ds Teaching K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hift in Thinking and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lick.pn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ing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concept of Kids Teaching Kids change our current instructional pract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ds Teaching K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iagram 4" descr=""/>
          <p:cNvPicPr/>
          <p:nvPr/>
        </p:nvPicPr>
        <p:blipFill>
          <a:blip r:embed="rId1"/>
          <a:stretch/>
        </p:blipFill>
        <p:spPr>
          <a:xfrm>
            <a:off x="1139760" y="1139760"/>
            <a:ext cx="6943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Diagram 2" descr=""/>
          <p:cNvPicPr/>
          <p:nvPr/>
        </p:nvPicPr>
        <p:blipFill>
          <a:blip r:embed="rId1"/>
          <a:stretch/>
        </p:blipFill>
        <p:spPr>
          <a:xfrm>
            <a:off x="1139760" y="1365120"/>
            <a:ext cx="6870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agram 2" descr=""/>
          <p:cNvPicPr/>
          <p:nvPr/>
        </p:nvPicPr>
        <p:blipFill>
          <a:blip r:embed="rId1"/>
          <a:stretch/>
        </p:blipFill>
        <p:spPr>
          <a:xfrm>
            <a:off x="596880" y="573120"/>
            <a:ext cx="78408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Ac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in the Classro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is all me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ft in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ft i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6 0.00232 L 0.7066 -0.00879 E">
                                      <p:cBhvr>
                                        <p:cTn id="6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924 -0.00579 L -0.76424 -0.00579 E">
                                      <p:cBhvr>
                                        <p:cTn id="8" dur="3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itls\Local Settings\Temporary Internet Files\Content.IE5\K96ZG5AN\MCj04242340000[1].wmf"/>
          <p:cNvPicPr/>
          <p:nvPr/>
        </p:nvPicPr>
        <p:blipFill>
          <a:blip r:embed="rId1"/>
          <a:stretch/>
        </p:blipFill>
        <p:spPr>
          <a:xfrm>
            <a:off x="3809880" y="1143000"/>
            <a:ext cx="1635120" cy="1577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 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are you going to initiate Kids teaching Kids in your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5:36:11Z</dcterms:created>
  <dc:creator>itls</dc:creator>
  <dc:description/>
  <dc:language>en-US</dc:language>
  <cp:lastModifiedBy>itls</cp:lastModifiedBy>
  <dcterms:modified xsi:type="dcterms:W3CDTF">2009-07-09T16:55:15Z</dcterms:modified>
  <cp:revision>1</cp:revision>
  <dc:subject/>
  <dc:title>Kids Teaching Kids</dc:title>
</cp:coreProperties>
</file>